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9B9A-1AB9-41BD-ABD8-B4D0740F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6D8-E1D3-4DBA-9EFC-9DC429C3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2CC-160E-4F56-96E6-60FF9CAE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FAA-6A25-4E4B-9FB7-5FE77B8E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1AD-4173-4C87-9BCC-78632FC5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DC8-CB1A-485F-B61D-CE5FD48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448-49F1-46C1-88A5-FA947BE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986-FF33-4156-898C-E6F005B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34F-71C6-4E6D-A83C-DCD1134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DA7-D7E9-46D5-BE6E-7154C5DA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664-5710-4D2A-9639-3FEC034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58C-6A81-4115-86C6-AC5B49E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D82-EF6E-481F-A7D6-746B3FB7E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Cj03519040000[1]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3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8" name="Oval 70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82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0" name="Picture 77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Text Box 8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" name="Group 84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3" name="Oval 71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81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50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87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7" name="Oval 74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85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86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920" y="1066680"/>
            <a:ext cx="6553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380880" y="2514600"/>
            <a:ext cx="4343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3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6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66" name="Text Box 34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5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38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0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1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6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73" name="Picture 44" descr=""/>
            <p:cNvPicPr/>
            <p:nvPr/>
          </p:nvPicPr>
          <p:blipFill>
            <a:blip r:embed="rId1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45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"/>
          <p:cNvSpPr/>
          <p:nvPr/>
        </p:nvSpPr>
        <p:spPr>
          <a:xfrm>
            <a:off x="5410080" y="304812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Trivi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 standard for mass is: 1 kilogram is equal to the mass of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62520" y="990720"/>
            <a:ext cx="5181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3" descr=""/>
          <p:cNvPicPr/>
          <p:nvPr/>
        </p:nvPicPr>
        <p:blipFill>
          <a:blip r:embed="rId1"/>
          <a:stretch/>
        </p:blipFill>
        <p:spPr>
          <a:xfrm>
            <a:off x="11160" y="1219320"/>
            <a:ext cx="3200400" cy="1349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3181320" cy="2632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3733920" y="3581280"/>
            <a:ext cx="51814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have balanced the scale, you add up the amounts on each beam to find the total ma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be the mass of the object measured in the pi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 + ______ + _______ = ________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9"/>
          <p:cNvSpPr/>
          <p:nvPr/>
        </p:nvSpPr>
        <p:spPr>
          <a:xfrm flipH="1" flipV="1">
            <a:off x="2590920" y="19051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28600" y="1066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lace a small canister on the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838080" y="1523880"/>
            <a:ext cx="38124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90" name="Text Box 9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ks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2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93" name="Text Box 11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3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96" name="Text Box 13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7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98" name="Line 15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Oval 18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9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St. Aloysius</cp:lastModifiedBy>
  <dcterms:modified xsi:type="dcterms:W3CDTF">2012-09-24T18:17:09Z</dcterms:modified>
  <cp:revision>24</cp:revision>
  <dc:subject/>
  <dc:title>Slide 1</dc:title>
</cp:coreProperties>
</file>